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17B-DE5D-4CE7-8617-3BF1A977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77F-9FD9-49E2-8503-15E80C1B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069-C642-4570-96BE-D9596E6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897-1281-4415-8131-4A21C773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5A84-6976-4448-B9B2-4405B6E1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0F2E-87D8-4ECE-A6E5-0FA10880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1E0A-7F8D-47EB-A656-855F4B1C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C85-3F81-4184-80D6-4977D2A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0F7D-64C2-486D-B2BA-D14A622F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2A43-9BA6-4364-99BE-FCA3A74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52C4-A139-4DA3-856F-784E6C5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5FA-1531-49A2-8F1C-49C7A362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A470-CDF6-41FA-8448-E028F08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817F-F112-4ED6-80FC-E478B88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7C28-FA29-4292-85EE-FEFDA3C8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A776-D200-4411-A272-B7DD0B88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0260-7C52-4149-9A90-C90E41D3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496-6835-49B5-8583-DD21005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590-BF67-4F3A-9B71-B956496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5E6-764B-49AF-8DA0-EE97D3CB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CA2-A111-4519-8E3A-2C14379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2EB-4A6B-4F60-AA8B-B47562DF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B2A-277A-423E-95EC-5BF83FF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45A-CE2A-400F-8DA1-0B437A8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3821040" cy="433548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1644480" cy="166068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50420"/>
              </a:gs>
              <a:gs pos="50000">
                <a:srgbClr val="0d0a46"/>
              </a:gs>
              <a:gs pos="100000">
                <a:srgbClr val="0504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1BE-556E-4B01-B0C9-A158610F1CCF}" type="slidenum"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70A-7440-4D80-8A3F-3315C53E3D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4" marL="1828800" algn="ctr">
              <a:spcBef>
                <a:spcPts val="499"/>
              </a:spcBef>
              <a:buClr>
                <a:srgbClr val="633d4e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What is Economics?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4419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rnerstone"/>
              </a:rPr>
              <a:t>A crash course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Supply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This means that the higher the price, the higher the quantity supplie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Producers supply more at a higher price because selling a higher quantity at a higher price increases revenue.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Equilibriu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When supply and demand are equal the economy is said to be at equilibrium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At this point, the allocation of goods is at its most efficient because the amount of goods being supplied is exactly the same as the amount of goods being demande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Equilibriu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4" name=""/>
          <p:cNvSpPr/>
          <p:nvPr/>
        </p:nvSpPr>
        <p:spPr>
          <a:xfrm>
            <a:off x="31338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economics5" descr=""/>
          <p:cNvPicPr/>
          <p:nvPr/>
        </p:nvPicPr>
        <p:blipFill>
          <a:blip r:embed="rId1"/>
          <a:stretch/>
        </p:blipFill>
        <p:spPr>
          <a:xfrm>
            <a:off x="1447920" y="1876320"/>
            <a:ext cx="6229080" cy="46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What is Capitalism?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apitalism is an economic system based on private: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Ownership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roduction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Distribution of good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Capit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free enterpri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- the government should not interfere in the econom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Powered by the “invisible hand” (competition for profit)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What is Economics?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conomics is the study of what constitutes rational human behavior in the endeavor to fulfill needs and wants.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The “Father” of Modern 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am Smith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1723 - 1790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uthor of the famous book "An Inquiry into the Nature and Causes of the Wealth of Nations"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pawned the discipline of economics by trying to understand why some nations prospered while others lagged behind in povert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The Foundation of 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arcit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carcity refers to the tension between our limited resources and our unlimited wants and needs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or an individual, resources include time, money and skill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or a country, limited resources include natural resources, capital, labor force and technology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acro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croeconomics looks at the total output of a nation and the way the nation allocates its limited resources of land, labor and capital in an attempt to maximize production levels and promote trade and growth for future generations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fter observing the society as a whole, Adam Smith noted that there was an "invisible hand" turning the wheels of the economy: a market force that keeps the economy functioning.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icro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icroeconomics looks into similar issues, but on the level of the individual people and firms within the economy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t tends to be more scientific in its approach, and studies the parts that make up the whole economy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nalyzing certain aspects of human behavior, microeconomics shows us how individuals and firms respond to changes in price and why they demand what they do at particular price levels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Demand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2" name=""/>
          <p:cNvSpPr/>
          <p:nvPr/>
        </p:nvSpPr>
        <p:spPr>
          <a:xfrm>
            <a:off x="3133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economics3" descr=""/>
          <p:cNvPicPr/>
          <p:nvPr/>
        </p:nvPicPr>
        <p:blipFill>
          <a:blip r:embed="rId1"/>
          <a:stretch/>
        </p:blipFill>
        <p:spPr>
          <a:xfrm>
            <a:off x="1638360" y="1697040"/>
            <a:ext cx="5867280" cy="478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Demand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The law of demand states that, if all other factors remain equal, the higher the price of a good, the less people will demand that goo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In other words, the higher the price, the lower the quantity demande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Supply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7" name=""/>
          <p:cNvSpPr/>
          <p:nvPr/>
        </p:nvSpPr>
        <p:spPr>
          <a:xfrm>
            <a:off x="31100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economics4" descr=""/>
          <p:cNvPicPr/>
          <p:nvPr/>
        </p:nvPicPr>
        <p:blipFill>
          <a:blip r:embed="rId1"/>
          <a:stretch/>
        </p:blipFill>
        <p:spPr>
          <a:xfrm>
            <a:off x="1647720" y="1752480"/>
            <a:ext cx="581976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3:21:58Z</dcterms:created>
  <dc:creator>Computer User</dc:creator>
  <dc:description/>
  <dc:language>en-US</dc:language>
  <cp:lastModifiedBy>JDORMAN</cp:lastModifiedBy>
  <dcterms:modified xsi:type="dcterms:W3CDTF">2006-11-02T13:49:31Z</dcterms:modified>
  <cp:revision>22</cp:revision>
  <dc:subject/>
  <dc:title>PowerPoint Presentation</dc:title>
</cp:coreProperties>
</file>